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15C-36F3-4CE4-A2DC-5A1673FF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FD5-EAC7-4663-A1BE-FB70510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3AD-3FDF-4279-BD42-69531791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D9B-E8E3-4DEE-ACC6-85B4C3A1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064-2EF0-456C-A495-D1C5076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34A-D0E2-4D75-9D39-6FE5DED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9EB-64E7-4B30-9A64-0E33F80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880-328C-4787-9C36-738B4CC9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9A7-34E4-460C-B243-1F7E5C9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185-8AD5-43D5-8A6C-D1AA37D9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F8B-EB1E-4E09-93DF-A3326F0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5DC-D053-4F96-B239-346ACFB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C92-2605-45AA-ADD2-5256BAA0D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5"/>
          <p:cNvSpPr/>
          <p:nvPr/>
        </p:nvSpPr>
        <p:spPr>
          <a:xfrm>
            <a:off x="1042920" y="0"/>
            <a:ext cx="8215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Ana foi ás aulas, embora não se sentisse muito bem. Tinha dores de cabeça e corrimento nasal. Quando chegou sentou-se na carteira ao lado da Sónia. Logo percebeu que a Sónia também não se sentia bem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Nancy Lai\ebug\comic-strip\Flash_Comic\Comic_1a.png"/>
          <p:cNvPicPr/>
          <p:nvPr/>
        </p:nvPicPr>
        <p:blipFill>
          <a:blip r:embed="rId2"/>
          <a:stretch/>
        </p:blipFill>
        <p:spPr>
          <a:xfrm>
            <a:off x="622440" y="2143080"/>
            <a:ext cx="382572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9"/>
          <p:cNvSpPr/>
          <p:nvPr/>
        </p:nvSpPr>
        <p:spPr>
          <a:xfrm>
            <a:off x="1989000" y="1428840"/>
            <a:ext cx="2352960" cy="358560"/>
          </a:xfrm>
          <a:prstGeom prst="wedgeRoundRectCallout">
            <a:avLst>
              <a:gd name="adj1" fmla="val -55574"/>
              <a:gd name="adj2" fmla="val 154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que tens, Sónia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0"/>
          <p:cNvSpPr/>
          <p:nvPr/>
        </p:nvSpPr>
        <p:spPr>
          <a:xfrm flipH="1">
            <a:off x="785880" y="4714920"/>
            <a:ext cx="3000240" cy="928800"/>
          </a:xfrm>
          <a:prstGeom prst="wedgeRoundRectCallout">
            <a:avLst>
              <a:gd name="adj1" fmla="val -38722"/>
              <a:gd name="adj2" fmla="val -109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Tenho muita tosse, mas a minha mãe disse que tinha de vir às aul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Nancy Lai\ebug\comic-strip\Flash_Comic\Comic_1b.png"/>
          <p:cNvPicPr/>
          <p:nvPr/>
        </p:nvPicPr>
        <p:blipFill>
          <a:blip r:embed="rId3"/>
          <a:stretch/>
        </p:blipFill>
        <p:spPr>
          <a:xfrm>
            <a:off x="4635360" y="2143080"/>
            <a:ext cx="3814920" cy="28638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2"/>
          <p:cNvSpPr/>
          <p:nvPr/>
        </p:nvSpPr>
        <p:spPr>
          <a:xfrm flipH="1">
            <a:off x="5072040" y="4962600"/>
            <a:ext cx="3000240" cy="966600"/>
          </a:xfrm>
          <a:prstGeom prst="wedgeRoundRectCallout">
            <a:avLst>
              <a:gd name="adj1" fmla="val 22203"/>
              <a:gd name="adj2" fmla="val -143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minha também. Mas não tenho tosse.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Devias cobrir a boca com a mão, sabes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17560" y="196920"/>
            <a:ext cx="7318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À hora do almoço a Ana e a Sónia, foram aos lavab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Sónia estava com fome e tinha vontade de ir almoç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Nancy Lai\ebug\comic-strip\Flash_Comic\Comic_2a.png"/>
          <p:cNvPicPr/>
          <p:nvPr/>
        </p:nvPicPr>
        <p:blipFill>
          <a:blip r:embed="rId2"/>
          <a:stretch/>
        </p:blipFill>
        <p:spPr>
          <a:xfrm>
            <a:off x="642960" y="2000160"/>
            <a:ext cx="38178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2484360" y="1125360"/>
            <a:ext cx="1943280" cy="633600"/>
          </a:xfrm>
          <a:prstGeom prst="wedgeRoundRectCallout">
            <a:avLst>
              <a:gd name="adj1" fmla="val 34069"/>
              <a:gd name="adj2" fmla="val 259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a, anda!  Estou cheia de fome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785880" y="5214960"/>
            <a:ext cx="2357280" cy="714240"/>
          </a:xfrm>
          <a:prstGeom prst="wedgeRoundRectCallout">
            <a:avLst>
              <a:gd name="adj1" fmla="val -10481"/>
              <a:gd name="adj2" fmla="val -203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ra, tenho de lavar as mã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Nancy Lai\ebug\comic-strip\Flash_Comic\Comic_2b.png"/>
          <p:cNvPicPr/>
          <p:nvPr/>
        </p:nvPicPr>
        <p:blipFill>
          <a:blip r:embed="rId3"/>
          <a:stretch/>
        </p:blipFill>
        <p:spPr>
          <a:xfrm>
            <a:off x="4643280" y="200016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86240" y="5214960"/>
            <a:ext cx="2524320" cy="928800"/>
          </a:xfrm>
          <a:prstGeom prst="wedgeRoundRectCallout">
            <a:avLst>
              <a:gd name="adj1" fmla="val 61666"/>
              <a:gd name="adj2" fmla="val -19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é preciso. Eu nunca lavo e não me acontece mal nenh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63760" y="214200"/>
            <a:ext cx="7500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urante o almoço a Ana estava a falou com o Henrique sobre as suas queixas de dor de cabeça e corrimento na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Nancy Lai\ebug\comic-strip\Flash_Comic\Comic_3a.png"/>
          <p:cNvPicPr/>
          <p:nvPr/>
        </p:nvPicPr>
        <p:blipFill>
          <a:blip r:embed="rId2"/>
          <a:stretch/>
        </p:blipFill>
        <p:spPr>
          <a:xfrm>
            <a:off x="571680" y="2143080"/>
            <a:ext cx="3898800" cy="29289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714680" y="1143000"/>
            <a:ext cx="2571480" cy="785880"/>
          </a:xfrm>
          <a:prstGeom prst="wedgeRoundRectCallout">
            <a:avLst>
              <a:gd name="adj1" fmla="val -50680"/>
              <a:gd name="adj2" fmla="val 122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abes, dói mesmo! Acho que estou a ficar com to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63640" y="5143680"/>
            <a:ext cx="3022560" cy="714240"/>
          </a:xfrm>
          <a:prstGeom prst="wedgeRoundRectCallout">
            <a:avLst>
              <a:gd name="adj1" fmla="val 5249"/>
              <a:gd name="adj2" fmla="val -252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tens um antibiótico em casa, que pudesses tom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Nancy Lai\ebug\comic-strip\Flash_Comic\Comic_3b.png"/>
          <p:cNvPicPr/>
          <p:nvPr/>
        </p:nvPicPr>
        <p:blipFill>
          <a:blip r:embed="rId3"/>
          <a:stretch/>
        </p:blipFill>
        <p:spPr>
          <a:xfrm>
            <a:off x="4638600" y="2157480"/>
            <a:ext cx="385776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0"/>
          <p:cNvSpPr/>
          <p:nvPr/>
        </p:nvSpPr>
        <p:spPr>
          <a:xfrm flipV="1" rot="10800000">
            <a:off x="5292360" y="5072040"/>
            <a:ext cx="3063960" cy="1214640"/>
          </a:xfrm>
          <a:prstGeom prst="wedgeRoundRectCallout">
            <a:avLst>
              <a:gd name="adj1" fmla="val 38805"/>
              <a:gd name="adj2" fmla="val -161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oa ideia!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inda devemos ter um, que sobrou de uma otite que a minha irmã teve. Vou perguntar à minha mã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8"/>
          <p:cNvGrpSpPr/>
          <p:nvPr/>
        </p:nvGrpSpPr>
        <p:grpSpPr>
          <a:xfrm>
            <a:off x="755640" y="1989000"/>
            <a:ext cx="7429680" cy="3191040"/>
            <a:chOff x="755640" y="1989000"/>
            <a:chExt cx="7429680" cy="3191040"/>
          </a:xfrm>
        </p:grpSpPr>
        <p:pic>
          <p:nvPicPr>
            <p:cNvPr id="60" name="Picture 2" descr="C:\Nancy Lai\ebug\comic-strip\Flash_Comic\Comic_4a.png"/>
            <p:cNvPicPr/>
            <p:nvPr/>
          </p:nvPicPr>
          <p:blipFill>
            <a:blip r:embed="rId2"/>
            <a:stretch/>
          </p:blipFill>
          <p:spPr>
            <a:xfrm>
              <a:off x="75564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Nancy Lai\ebug\comic-strip\Flash_Comic\Comic_4b.png"/>
            <p:cNvPicPr/>
            <p:nvPr/>
          </p:nvPicPr>
          <p:blipFill>
            <a:blip r:embed="rId3"/>
            <a:stretch/>
          </p:blipFill>
          <p:spPr>
            <a:xfrm>
              <a:off x="467280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AutoShape 6"/>
          <p:cNvSpPr/>
          <p:nvPr/>
        </p:nvSpPr>
        <p:spPr>
          <a:xfrm>
            <a:off x="857160" y="5429160"/>
            <a:ext cx="2851200" cy="662040"/>
          </a:xfrm>
          <a:prstGeom prst="wedgeRoundRectCallout">
            <a:avLst>
              <a:gd name="adj1" fmla="val 16314"/>
              <a:gd name="adj2" fmla="val -2440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da comigo, vou levar-te à Profª Teres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flipH="1" flipV="1" rot="10800000">
            <a:off x="5435640" y="5013360"/>
            <a:ext cx="2992320" cy="928800"/>
          </a:xfrm>
          <a:prstGeom prst="wedgeRoundRectCallout">
            <a:avLst>
              <a:gd name="adj1" fmla="val -57958"/>
              <a:gd name="adj2" fmla="val -132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Oh querido!  Deixa ver. Não é tão mau como pare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Vamos só pôr um pen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 flipH="1">
            <a:off x="1785960" y="1125360"/>
            <a:ext cx="2928960" cy="605160"/>
          </a:xfrm>
          <a:prstGeom prst="wedgeRoundRectCallout">
            <a:avLst>
              <a:gd name="adj1" fmla="val -18402"/>
              <a:gd name="adj2" fmla="val 213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h! O meu joelho está a deitar muito san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390680" y="214200"/>
            <a:ext cx="74293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epois do almoço, foram para o recreio brincar. O Henrique caíu e fez uma ferida profunda no joe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642960" y="1946160"/>
            <a:ext cx="7715160" cy="3490920"/>
            <a:chOff x="642960" y="1946160"/>
            <a:chExt cx="7715160" cy="3490920"/>
          </a:xfrm>
        </p:grpSpPr>
        <p:pic>
          <p:nvPicPr>
            <p:cNvPr id="67" name="Picture 6" descr="C:\Nancy Lai\ebug\comic-strip\Flash_Comic\Comic_2a.png"/>
            <p:cNvPicPr/>
            <p:nvPr/>
          </p:nvPicPr>
          <p:blipFill>
            <a:blip r:embed="rId2"/>
            <a:stretch/>
          </p:blipFill>
          <p:spPr>
            <a:xfrm>
              <a:off x="64296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C:\Nancy Lai\ebug\comic-strip\Flash_Comic\Comic_2b.png"/>
            <p:cNvPicPr/>
            <p:nvPr/>
          </p:nvPicPr>
          <p:blipFill>
            <a:blip r:embed="rId3"/>
            <a:stretch/>
          </p:blipFill>
          <p:spPr>
            <a:xfrm>
              <a:off x="471060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AutoShape 6"/>
          <p:cNvSpPr/>
          <p:nvPr/>
        </p:nvSpPr>
        <p:spPr>
          <a:xfrm>
            <a:off x="900000" y="1197000"/>
            <a:ext cx="3483000" cy="865080"/>
          </a:xfrm>
          <a:prstGeom prst="wedgeRoundRectCallout">
            <a:avLst>
              <a:gd name="adj1" fmla="val 32773"/>
              <a:gd name="adj2" fmla="val 96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des ir para casa, descansar na caminha, e tomar este xarope para as dores de cabeç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42960" y="5143680"/>
            <a:ext cx="2473200" cy="903240"/>
          </a:xfrm>
          <a:prstGeom prst="wedgeRoundRectCallout">
            <a:avLst>
              <a:gd name="adj1" fmla="val -1662"/>
              <a:gd name="adj2" fmla="val -190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lhe vai receitar antibiótico? Ela está tão doe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5435640" y="1398600"/>
            <a:ext cx="2851200" cy="446040"/>
          </a:xfrm>
          <a:prstGeom prst="wedgeRoundRectCallout">
            <a:avLst>
              <a:gd name="adj1" fmla="val 31458"/>
              <a:gd name="adj2" fmla="val 195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. Não vai ser pre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14280" y="214200"/>
            <a:ext cx="7678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Quando a Ana chegou a casa, a mãe resolveu levá-la ao médico, porque lhe parecia que estava com uma forte constip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714240" y="2000160"/>
            <a:ext cx="7786440" cy="3143520"/>
            <a:chOff x="714240" y="2000160"/>
            <a:chExt cx="7786440" cy="3143520"/>
          </a:xfrm>
        </p:grpSpPr>
        <p:pic>
          <p:nvPicPr>
            <p:cNvPr id="74" name="Picture 8" descr="C:\Nancy Lai\ebug\comic-strip\Flash_Comic\Comic_3a.png"/>
            <p:cNvPicPr/>
            <p:nvPr/>
          </p:nvPicPr>
          <p:blipFill>
            <a:blip r:embed="rId2"/>
            <a:stretch/>
          </p:blipFill>
          <p:spPr>
            <a:xfrm>
              <a:off x="71424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C:\Nancy Lai\ebug\comic-strip\Flash_Comic\Comic_3b.png"/>
            <p:cNvPicPr/>
            <p:nvPr/>
          </p:nvPicPr>
          <p:blipFill>
            <a:blip r:embed="rId3"/>
            <a:stretch/>
          </p:blipFill>
          <p:spPr>
            <a:xfrm>
              <a:off x="481860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AutoShape 6"/>
          <p:cNvSpPr/>
          <p:nvPr/>
        </p:nvSpPr>
        <p:spPr>
          <a:xfrm flipV="1" rot="10800000">
            <a:off x="1285560" y="1356120"/>
            <a:ext cx="3071880" cy="623880"/>
          </a:xfrm>
          <a:prstGeom prst="wedgeRoundRectCallout">
            <a:avLst>
              <a:gd name="adj1" fmla="val 37319"/>
              <a:gd name="adj2" fmla="val 95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foste hoje à escola. Estás b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14240" y="4500720"/>
            <a:ext cx="3830760" cy="1214280"/>
          </a:xfrm>
          <a:prstGeom prst="wedgeRoundRectCallout">
            <a:avLst>
              <a:gd name="adj1" fmla="val 9939"/>
              <a:gd name="adj2" fmla="val -154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, o meu joelho começou a inchar e tive muitas dores. A minha mãe levou-me ao médico e ele disse que a ferida tinha infec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072040" y="1197000"/>
            <a:ext cx="3316320" cy="647640"/>
          </a:xfrm>
          <a:prstGeom prst="wedgeRoundRectCallout">
            <a:avLst>
              <a:gd name="adj1" fmla="val -31185"/>
              <a:gd name="adj2" fmla="val 76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h, coitado!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le deu-te remédio para as 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flipV="1" rot="10800000">
            <a:off x="5219640" y="4856760"/>
            <a:ext cx="3240000" cy="1011240"/>
          </a:xfrm>
          <a:prstGeom prst="wedgeRoundRectCallout">
            <a:avLst>
              <a:gd name="adj1" fmla="val -15805"/>
              <a:gd name="adj2" fmla="val -193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, deu-me antibiótico para curar a infecção e até disse para tomar tudo até ao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28840" y="214200"/>
            <a:ext cx="7429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O Henrique não foi às aulas no dia seguinte. Ao fim do dia, a Ana foi visitá-lo no caminho para casa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6:19:07Z</dcterms:created>
  <dc:creator>David Farrell</dc:creator>
  <dc:description/>
  <dc:language>en-US</dc:language>
  <cp:lastModifiedBy>Antonio Brito Avo</cp:lastModifiedBy>
  <dcterms:modified xsi:type="dcterms:W3CDTF">2009-05-17T18:39:35Z</dcterms:modified>
  <cp:revision>15</cp:revision>
  <dc:subject/>
  <dc:title>e-Bug</dc:title>
</cp:coreProperties>
</file>